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8FF0-11A5-4C00-AEA9-DDD45837069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adis.mfcr.cz/adis/jepo/index.html" TargetMode="External"/><Relationship Id="rId2" Type="http://schemas.openxmlformats.org/officeDocument/2006/relationships/hyperlink" Target="http://adis.mfcr.cz/adis/jepo/index.html" TargetMode="External"/><Relationship Id="rId3" Type="http://schemas.openxmlformats.org/officeDocument/2006/relationships/hyperlink" Target="http://adis.mfcr.cz/adis/jepo/index.html" TargetMode="External"/><Relationship Id="rId4" Type="http://schemas.openxmlformats.org/officeDocument/2006/relationships/hyperlink" Target="http://adis.mfcr.cz/adis/jepo/index.html" TargetMode="External"/><Relationship Id="rId5" Type="http://schemas.openxmlformats.org/officeDocument/2006/relationships/hyperlink" Target="http://adis.mfcr.cz/adis/jepo/index.html" TargetMode="External"/><Relationship Id="rId6" Type="http://schemas.openxmlformats.org/officeDocument/2006/relationships/hyperlink" Target="http://adis.mfcr.cz/adis/jepo/index.html" TargetMode="External"/><Relationship Id="rId7" Type="http://schemas.openxmlformats.org/officeDocument/2006/relationships/hyperlink" Target="http://adis.mfcr.cz/adis/jepo/index.html" TargetMode="External"/><Relationship Id="rId8" Type="http://schemas.openxmlformats.org/officeDocument/2006/relationships/hyperlink" Target="http://adis.mfcr.cz/adis/jepo/index.html" TargetMode="External"/><Relationship Id="rId9" Type="http://schemas.openxmlformats.org/officeDocument/2006/relationships/hyperlink" Target="http://adis.mfcr.cz/adis/jepo/index.html" TargetMode="External"/><Relationship Id="rId10" Type="http://schemas.openxmlformats.org/officeDocument/2006/relationships/hyperlink" Target="http://adis.mfcr.cz/adis/jepo/index.html" TargetMode="External"/><Relationship Id="rId11" Type="http://schemas.openxmlformats.org/officeDocument/2006/relationships/hyperlink" Target="http://adis.mfcr.cz/adis/jepo/index.html" TargetMode="External"/><Relationship Id="rId12" Type="http://schemas.openxmlformats.org/officeDocument/2006/relationships/hyperlink" Target="http://adis.mfcr.cz/adis/jepo/index.html" TargetMode="External"/><Relationship Id="rId13" Type="http://schemas.openxmlformats.org/officeDocument/2006/relationships/slide" Target="../slides/slide4.xml"/><Relationship Id="rId1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justice.cz/" TargetMode="External"/><Relationship Id="rId2" Type="http://schemas.openxmlformats.org/officeDocument/2006/relationships/hyperlink" Target="http://www.justice.cz/" TargetMode="External"/><Relationship Id="rId3" Type="http://schemas.openxmlformats.org/officeDocument/2006/relationships/hyperlink" Target="http://wwwinfo.mfcr.cz/ares/" TargetMode="External"/><Relationship Id="rId4" Type="http://schemas.openxmlformats.org/officeDocument/2006/relationships/hyperlink" Target="http://wwwinfo.mfcr.cz/ares/" TargetMode="External"/><Relationship Id="rId5" Type="http://schemas.openxmlformats.org/officeDocument/2006/relationships/hyperlink" Target="http://wwwinfo.mfcr.cz/ares/" TargetMode="External"/><Relationship Id="rId6" Type="http://schemas.openxmlformats.org/officeDocument/2006/relationships/hyperlink" Target="http://wwwinfo.mfcr.cz/ares/" TargetMode="External"/><Relationship Id="rId7" Type="http://schemas.openxmlformats.org/officeDocument/2006/relationships/hyperlink" Target="http://wwwinfo.mfcr.cz/ares/" TargetMode="External"/><Relationship Id="rId8" Type="http://schemas.openxmlformats.org/officeDocument/2006/relationships/hyperlink" Target="http://wwwinfo.mfcr.cz/ares/" TargetMode="External"/><Relationship Id="rId9" Type="http://schemas.openxmlformats.org/officeDocument/2006/relationships/hyperlink" Target="http://wwwinfo.mfcr.cz/ares/" TargetMode="External"/><Relationship Id="rId10" Type="http://schemas.openxmlformats.org/officeDocument/2006/relationships/hyperlink" Target="http://wwwinfo.mfcr.cz/ares/" TargetMode="External"/><Relationship Id="rId11" Type="http://schemas.openxmlformats.org/officeDocument/2006/relationships/hyperlink" Target="http://wwwinfo.mfcr.cz/ares/" TargetMode="External"/><Relationship Id="rId12" Type="http://schemas.openxmlformats.org/officeDocument/2006/relationships/slide" Target="../slides/slide5.xml"/><Relationship Id="rId1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Informační systém obecně chápeme jako systém sloužící shromažďování, zpracování a poskytování dat. Informační systém nemusí být nutně automatizovaný, může být například v listinné podobě, ale tím se v této práci zabývat nebudeme. S těmito systémy se setkáváme denně při své práci i doma a díky internetu a jeho plošnému rozšíření jsme se naučili je využívat i v běžném životě. Používáme je pro vyhledání telefonních čísel, pro vyhledání vhodného dopravního spojení, abychom zbytečně netrávili čas čekáním, pro vyhledání zábavy, kterým zaplníme svůj volný čas, pro vyhledání obchodních partnerů a informací o nich, o jejich solventnosti nebo insolventnosti, pro vyhledání nejvýhodnějšího pojištění, pro vyhledání nejlevnějšího zboží, jako pomocníka v rozhodování v kapitálových transakcích a zajisté vás napadne mnoho dalších příkladů z praxe, kdy je využíváme jako automatickou a rychlou pomoc. </a:t>
            </a:r>
            <a:endParaRPr b="0" lang="en-US" sz="8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Tyto systémy samozřejmě používáme i v podnikání a v obchodním styku. Rychle jsme si zvykli, že pro zpracování účetnictví používáme software, který nám poskytne okamžitě průběžnou informaci o stavu našeho podnikání. S těmito systémy pracuje mnoho lidí a berou jaksi samozřejmě i výpisy všech povinných evidencí, jako je například, pro podvojné účetnictví, hlavní kniha, knihy analytických účtů a další účetní knihy a výkazy, například rozvaha, výsledovka, přehled o peněžních tocích  nebo samozřejmě kniha jízd. Stejně tak zpracování mezd nám usnadňuje software. Při zakoupení správné licence jsou systémy updatovány a tudíž má podnikatel zajištěny včasné a správné sazby pro zákonné odvody. Zákon 563/1991 Sb., o účetnictví, v § 14 zmiňuje povinnost uchovávat účetnictví jako celek. Účetní software zároveň zajišťuje splnění povinnosti podnikatele vést účetnictví průkazným způsobem a to tak, aby i po letech bylo možno provést kontrolu správnosti vykazovaných údajů. Zákon 563/1991 Sb. zároveň nově stanovuje povinnost zveřejňovat účetní závěrku i výroční zprávu všem účetním jednotkám zapisovaným do obchodního rejstříku ve sbírce listin Obchodního rejstříku. Účetní závěrka je de facto veřejnou informací, ale bez povinného zveřejňování, důsledné kontroly plnění této povinnosti a ukládání pokut za její porušení nebude plnit Obchodní rejstřík jednu ze svých funkcí. Pokud jako podnikatel budu chtít uzavřít smluvní vztah s jinou společností, budou údaje z účetní závěrky pro mne velmi důležitým a cenným faktorem při rozhodování. Zákon využívá správního uvážení a dává možnost za nesplnění této a dalších  povinností uložit pokutu až do výše 6% z aktiv.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700" spc="-1" strike="noStrike">
                <a:solidFill>
                  <a:srgbClr val="000000"/>
                </a:solidFill>
                <a:latin typeface="Tahoma"/>
              </a:rPr>
              <a:t>	</a:t>
            </a:r>
            <a:r>
              <a:rPr b="0" lang="cs-CZ" sz="700" spc="-1" strike="noStrike">
                <a:solidFill>
                  <a:srgbClr val="000000"/>
                </a:solidFill>
                <a:latin typeface="Tahoma"/>
              </a:rPr>
              <a:t>Rychlý vývoj techniky vyžadoval i právní úpravu možnosti podání daňových přiznání elektronickou cestou. Stalo se tak v roce 2000 zákonem č. 227/2000 Sb. o elektronickém podpisu a Pokynem Ministerstva financí č D-244, který nahradil nový pokyn D-252. Tento Pokyn stanovuje podmínky pro podání v daňových věcech prostřednictvím datové zprávy. Jsou zde nastavena pravidla pro podání opatřená elektronickým podpisem a pro podání neopatřená elektronickým podpisem. Na stránkách Ministerstva financí je možné využít systému EPO (elektronická podání pro daňovou správu), který dává možnost podnikateli uskutečňovat podání bez omezení 24 hodin denně a bez nutnosti návštěvy institucí či pošty. Podávající má okamžitou informaci o tom, zda podání bylo přijato nebo zamítnuto. Procesy automatických kontrol elektronického podání vedou ke zvýšení kvality informací přijímaných institucemi.  Pro podání v daňových věcech musí být datová zpráva ve stanoveném tvaru. Komplexní informace a požadavky na strukturu, formu a obsah je možné získat na internetové adrese </a:t>
            </a:r>
            <a:r>
              <a:rPr b="0" lang="cs-CZ" sz="700" spc="-1" strike="noStrike" u="sng">
                <a:solidFill>
                  <a:srgbClr val="009999"/>
                </a:solidFill>
                <a:uFillTx/>
                <a:latin typeface="Tahoma"/>
                <a:hlinkClick r:id="rId1"/>
              </a:rPr>
              <a:t>http://</a:t>
            </a:r>
            <a:r>
              <a:rPr b="0" lang="cs-CZ" sz="700" spc="-1" strike="noStrike" u="sng">
                <a:solidFill>
                  <a:srgbClr val="009999"/>
                </a:solidFill>
                <a:uFillTx/>
                <a:latin typeface="Tahoma"/>
                <a:hlinkClick r:id="rId2"/>
              </a:rPr>
              <a:t>adis</a:t>
            </a:r>
            <a:r>
              <a:rPr b="0" lang="cs-CZ" sz="700" spc="-1" strike="noStrike" u="sng">
                <a:solidFill>
                  <a:srgbClr val="009999"/>
                </a:solidFill>
                <a:uFillTx/>
                <a:latin typeface="Tahoma"/>
                <a:hlinkClick r:id="rId3"/>
              </a:rPr>
              <a:t>.</a:t>
            </a:r>
            <a:r>
              <a:rPr b="0" lang="cs-CZ" sz="700" spc="-1" strike="noStrike" u="sng">
                <a:solidFill>
                  <a:srgbClr val="009999"/>
                </a:solidFill>
                <a:uFillTx/>
                <a:latin typeface="Tahoma"/>
                <a:hlinkClick r:id="rId4"/>
              </a:rPr>
              <a:t>mfcr</a:t>
            </a:r>
            <a:r>
              <a:rPr b="0" lang="cs-CZ" sz="700" spc="-1" strike="noStrike" u="sng">
                <a:solidFill>
                  <a:srgbClr val="009999"/>
                </a:solidFill>
                <a:uFillTx/>
                <a:latin typeface="Tahoma"/>
                <a:hlinkClick r:id="rId5"/>
              </a:rPr>
              <a:t>.</a:t>
            </a:r>
            <a:r>
              <a:rPr b="0" lang="cs-CZ" sz="700" spc="-1" strike="noStrike" u="sng">
                <a:solidFill>
                  <a:srgbClr val="009999"/>
                </a:solidFill>
                <a:uFillTx/>
                <a:latin typeface="Tahoma"/>
                <a:hlinkClick r:id="rId6"/>
              </a:rPr>
              <a:t>cz</a:t>
            </a:r>
            <a:r>
              <a:rPr b="0" lang="cs-CZ" sz="700" spc="-1" strike="noStrike" u="sng">
                <a:solidFill>
                  <a:srgbClr val="009999"/>
                </a:solidFill>
                <a:uFillTx/>
                <a:latin typeface="Tahoma"/>
                <a:hlinkClick r:id="rId7"/>
              </a:rPr>
              <a:t>/</a:t>
            </a:r>
            <a:r>
              <a:rPr b="0" lang="cs-CZ" sz="700" spc="-1" strike="noStrike" u="sng">
                <a:solidFill>
                  <a:srgbClr val="009999"/>
                </a:solidFill>
                <a:uFillTx/>
                <a:latin typeface="Tahoma"/>
                <a:hlinkClick r:id="rId8"/>
              </a:rPr>
              <a:t>adis</a:t>
            </a:r>
            <a:r>
              <a:rPr b="0" lang="cs-CZ" sz="700" spc="-1" strike="noStrike" u="sng">
                <a:solidFill>
                  <a:srgbClr val="009999"/>
                </a:solidFill>
                <a:uFillTx/>
                <a:latin typeface="Tahoma"/>
                <a:hlinkClick r:id="rId9"/>
              </a:rPr>
              <a:t>/</a:t>
            </a:r>
            <a:r>
              <a:rPr b="0" lang="cs-CZ" sz="700" spc="-1" strike="noStrike" u="sng">
                <a:solidFill>
                  <a:srgbClr val="009999"/>
                </a:solidFill>
                <a:uFillTx/>
                <a:latin typeface="Tahoma"/>
                <a:hlinkClick r:id="rId10"/>
              </a:rPr>
              <a:t>jepo</a:t>
            </a:r>
            <a:r>
              <a:rPr b="0" lang="cs-CZ" sz="700" spc="-1" strike="noStrike" u="sng">
                <a:solidFill>
                  <a:srgbClr val="009999"/>
                </a:solidFill>
                <a:uFillTx/>
                <a:latin typeface="Tahoma"/>
                <a:hlinkClick r:id="rId11"/>
              </a:rPr>
              <a:t>/index.</a:t>
            </a:r>
            <a:r>
              <a:rPr b="0" lang="cs-CZ" sz="700" spc="-1" strike="noStrike" u="sng">
                <a:solidFill>
                  <a:srgbClr val="009999"/>
                </a:solidFill>
                <a:uFillTx/>
                <a:latin typeface="Tahoma"/>
                <a:hlinkClick r:id="rId12"/>
              </a:rPr>
              <a:t>html</a:t>
            </a:r>
            <a:r>
              <a:rPr b="0" lang="cs-CZ" sz="700" spc="-1" strike="noStrike">
                <a:solidFill>
                  <a:srgbClr val="000000"/>
                </a:solidFill>
                <a:latin typeface="Tahoma"/>
              </a:rPr>
              <a:t>.  Při podání je možné použít jak disketu 3,5“ nebo připojení přes Internet prostřednictvím prohlížeče Microsoft</a:t>
            </a:r>
            <a:r>
              <a:rPr b="1" lang="cs-CZ" sz="700" spc="-1" strike="noStrike">
                <a:solidFill>
                  <a:srgbClr val="000000"/>
                </a:solidFill>
                <a:latin typeface="Tahoma"/>
              </a:rPr>
              <a:t> </a:t>
            </a:r>
            <a:r>
              <a:rPr b="0" lang="cs-CZ" sz="700" spc="-1" strike="noStrike">
                <a:solidFill>
                  <a:srgbClr val="000000"/>
                </a:solidFill>
                <a:latin typeface="Tahoma"/>
              </a:rPr>
              <a:t>Internet Explorer verze 5.01 a vyšší, který musí mít nainstalované prostředí Java. Prostřednictvím tohoto informačního systému bylo v loňském roce uskutečněno více než 102 tis. podání. Obliba podání v daňových věcech prostřednictvím informačních systémů výrazně stoupá spolu s nárůstem rozšíření používání zaručeného elektronického podpisu. Za poslední 4 roky jde o nárůst o 1465 %. Při podání uskutečněném prostřednictvím datové zprávy se zaručeným elektronickým podpisem se postupuje podle § 21 Zákona o správě daní a poplatků. To znamená, že podání se učiní u místně příslušného správce daně, který upraví formu tohoto podání a na adresu jím zveřejněnou anebo na technickém nosiči dat. Opatření datové zprávy elektronickým podpisem vyplývá ze Zákona o elektronickém podpisu, kterým se budeme zabývat v další kapitole.  Má-li podání vady, vyzve místně příslušný správce daně podnikatele, resp. podávajícího k odstranění těchto vad ve stanovené lhůtě.  Při podání uskutečněném na počítačové sestavě s doručením datové zprávy, ale neopatřené zaručeným elektronickým podpisem se postupuje podle § 40 odst. 2 Zákona o správě daní a poplatků. V praxi to znamená, že Ministerstvo financí zveřejňuje formuláře určené pro podání i na svých stránkách. Tyto formuláře je možné vytisknout a použít místo oficiálních formulářů. </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	</a:t>
            </a:r>
            <a:r>
              <a:rPr b="0" lang="cs-CZ" sz="800" spc="-1" strike="noStrike">
                <a:solidFill>
                  <a:srgbClr val="000000"/>
                </a:solidFill>
                <a:latin typeface="Arial"/>
              </a:rPr>
              <a:t>V předchozích kapitolách byl několikrát zmíněn zákon č. 227/2000 Sb.,o elektronickém podpisu, který stanovuje a vymezuje pojmy a osoby jako je osoba podepisující, osoba označující, držitel certifikátu, poskytovatel certifikačních služeb atd. a zároveň stanovuje povinnosti z tohoto zákona vyplývající, potažmo sankce za jakékoliv porušení zaručeného elektronického podpisu. Elektronický podpis je metoda, která zaručuje jednoznačnou identifikaci podepsané osoby ve vztahu k datové zprávě. Podepisujícím může podle tohoto zákona být pouze fyzická osoba, která je držitelem prostředku pro vytváření elektronického podpisu a jedná svým jménem nebo jako zástupce jiné fyzické či právnické osoby. U datové zprávy podepsané zaručeným elektronickým podpisem se má za to, pokud se neprokáže opak, že podepisující osoba je s obsahem zprávy seznámena. Dojde-li k porušení obsahu datové zprávy od okamžiku jejího podpisu, je možné toto porušení zjistit.  Ministerstvo informatiky udělilo akreditaci k působení jako akreditovaný poskytovatel certifikačních služeb společnostem 1. certifikační autorita, a.s., Česká pošta, s.p. a eIdentity, a.s., které splnily všechny podmínky předepsané zákonem 227/2000 Sb., o elektronickém podpisu, zároveň splnily podmínky, požadavky a postupy stanovené vyhláškou 378/2006 Sb. o postupech kvalifikovaných poskytovatelů certifikačních služeb, o požadavcích na nástroje elektronického podpisu a o požadavcích na ochranu dat pro vytváření elektronických značek.</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Tahoma"/>
              </a:rPr>
              <a:t>	</a:t>
            </a:r>
            <a:r>
              <a:rPr b="0" lang="cs-CZ" sz="900" spc="-1" strike="noStrike">
                <a:solidFill>
                  <a:srgbClr val="000000"/>
                </a:solidFill>
                <a:latin typeface="Tahoma"/>
              </a:rPr>
              <a:t>Ve 3. kapitole byl zmíněn jeden z nejvyužívanějších informačních systému v obchodních vztazích a tím je Obchodní rejstřík. Obchodní rejstřík ve veřejně přístupná databáze zapsaných subjektů, kterou vede místně příslušný rejstříkový soud. Rejstříkový soud je veden u Krajských soudů v Českých Budějovicích, Plzni, Ústí nad Labem, Hradci Králové, Brně a Ostravě a u Městského soudu v Praze. V internetové podobě jej najdeme na adrese </a:t>
            </a:r>
            <a:r>
              <a:rPr b="0" lang="cs-CZ" sz="900" spc="-1" strike="noStrike" u="sng">
                <a:solidFill>
                  <a:srgbClr val="009999"/>
                </a:solidFill>
                <a:uFillTx/>
                <a:latin typeface="Tahoma"/>
                <a:hlinkClick r:id="rId1"/>
              </a:rPr>
              <a:t>http://www.justice.</a:t>
            </a:r>
            <a:r>
              <a:rPr b="0" lang="cs-CZ" sz="900" spc="-1" strike="noStrike" u="sng">
                <a:solidFill>
                  <a:srgbClr val="009999"/>
                </a:solidFill>
                <a:uFillTx/>
                <a:latin typeface="Tahoma"/>
                <a:hlinkClick r:id="rId2"/>
              </a:rPr>
              <a:t>cz</a:t>
            </a:r>
            <a:r>
              <a:rPr b="0" lang="cs-CZ" sz="900" spc="-1" strike="noStrike">
                <a:solidFill>
                  <a:srgbClr val="000000"/>
                </a:solidFill>
                <a:latin typeface="Tahoma"/>
              </a:rPr>
              <a:t> . Rejstříkový soud vede pro každý zapsaný subjekt zvláštní vložku a součástí obchodního rejstříku je i sbírka listin, do které jsou subjekty povinny vkládat listiny jako je zakladatelská smlouva, účetní závěrky, podpisové vzory atd. Bohužel v digitalizované podobě by měly listiny vložené po 1.1.1997 avšak skutečnost je takové, že u mnohých subjektů shledáme informaci o vložení té které listiny, ovšem s poznámkou, že dokument dosud nebyl digitalizován. Jedná-li se například o účetní závěrku z roku 2005, kterou subjekt vložil v průběhu roku 2006 a ta nebyla  digitalizována, nezbývá než hledat požadované informace v Obchodním věstníku nebo přímo u daného rejstříkového soudu.</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Tahoma"/>
              </a:rPr>
              <a:t>	</a:t>
            </a:r>
            <a:r>
              <a:rPr b="0" lang="cs-CZ" sz="900" spc="-1" strike="noStrike">
                <a:solidFill>
                  <a:srgbClr val="000000"/>
                </a:solidFill>
                <a:latin typeface="Tahoma"/>
              </a:rPr>
              <a:t>Do Obchodního rejstříku se obligatorně zapisuje obchodní firma, což je název subjektu, pod kterým je u rejstříkového soudu veden, datum zápisu, sídlo firmy, IČO, předmět činnosti, statutární orgán, kterým subjekt jedná, společníci, výše základního kapitálu a jeho splacení  společníky, počet vydaných akcií a jejich jmenovitá hodnota a ostatní skutečnosti.  Důležitou informací je poznámka, zda-li není subjekt v likvidaci či konkursu. V takovém případě je v internetové podobě zveřejněn i údaj o exekucích, o konkursu, je stanoven konkursní správce.  Pro subjekty nezapisované v Obchodním rejstříku, fyzické osoby, je veden Ministerstvem financí ČR Administrativní registr ekonomických subjektů, tzv. „ARES“, kde je možné nalézt údaje ze statistického registru RES a údaje z Registru živnostenského podnikání. Tato data najdeme na internetové adrese </a:t>
            </a:r>
            <a:r>
              <a:rPr b="0" lang="cs-CZ" sz="900" spc="-1" strike="noStrike" u="sng">
                <a:solidFill>
                  <a:srgbClr val="009999"/>
                </a:solidFill>
                <a:uFillTx/>
                <a:latin typeface="Tahoma"/>
                <a:hlinkClick r:id="rId3"/>
              </a:rPr>
              <a:t>http://</a:t>
            </a:r>
            <a:r>
              <a:rPr b="0" lang="cs-CZ" sz="900" spc="-1" strike="noStrike" u="sng">
                <a:solidFill>
                  <a:srgbClr val="009999"/>
                </a:solidFill>
                <a:uFillTx/>
                <a:latin typeface="Tahoma"/>
                <a:hlinkClick r:id="rId4"/>
              </a:rPr>
              <a:t>wwwinfo</a:t>
            </a:r>
            <a:r>
              <a:rPr b="0" lang="cs-CZ" sz="900" spc="-1" strike="noStrike" u="sng">
                <a:solidFill>
                  <a:srgbClr val="009999"/>
                </a:solidFill>
                <a:uFillTx/>
                <a:latin typeface="Tahoma"/>
                <a:hlinkClick r:id="rId5"/>
              </a:rPr>
              <a:t>.</a:t>
            </a:r>
            <a:r>
              <a:rPr b="0" lang="cs-CZ" sz="900" spc="-1" strike="noStrike" u="sng">
                <a:solidFill>
                  <a:srgbClr val="009999"/>
                </a:solidFill>
                <a:uFillTx/>
                <a:latin typeface="Tahoma"/>
                <a:hlinkClick r:id="rId6"/>
              </a:rPr>
              <a:t>mfcr</a:t>
            </a:r>
            <a:r>
              <a:rPr b="0" lang="cs-CZ" sz="900" spc="-1" strike="noStrike" u="sng">
                <a:solidFill>
                  <a:srgbClr val="009999"/>
                </a:solidFill>
                <a:uFillTx/>
                <a:latin typeface="Tahoma"/>
                <a:hlinkClick r:id="rId7"/>
              </a:rPr>
              <a:t>.</a:t>
            </a:r>
            <a:r>
              <a:rPr b="0" lang="cs-CZ" sz="900" spc="-1" strike="noStrike" u="sng">
                <a:solidFill>
                  <a:srgbClr val="009999"/>
                </a:solidFill>
                <a:uFillTx/>
                <a:latin typeface="Tahoma"/>
                <a:hlinkClick r:id="rId8"/>
              </a:rPr>
              <a:t>cz</a:t>
            </a:r>
            <a:r>
              <a:rPr b="0" lang="cs-CZ" sz="900" spc="-1" strike="noStrike" u="sng">
                <a:solidFill>
                  <a:srgbClr val="009999"/>
                </a:solidFill>
                <a:uFillTx/>
                <a:latin typeface="Tahoma"/>
                <a:hlinkClick r:id="rId9"/>
              </a:rPr>
              <a:t>/</a:t>
            </a:r>
            <a:r>
              <a:rPr b="0" lang="cs-CZ" sz="900" spc="-1" strike="noStrike" u="sng">
                <a:solidFill>
                  <a:srgbClr val="009999"/>
                </a:solidFill>
                <a:uFillTx/>
                <a:latin typeface="Tahoma"/>
                <a:hlinkClick r:id="rId10"/>
              </a:rPr>
              <a:t>ares</a:t>
            </a:r>
            <a:r>
              <a:rPr b="0" lang="cs-CZ" sz="900" spc="-1" strike="noStrike" u="sng">
                <a:solidFill>
                  <a:srgbClr val="009999"/>
                </a:solidFill>
                <a:uFillTx/>
                <a:latin typeface="Tahoma"/>
                <a:hlinkClick r:id="rId11"/>
              </a:rPr>
              <a:t>/</a:t>
            </a:r>
            <a:r>
              <a:rPr b="0" lang="cs-CZ" sz="900" spc="-1" strike="noStrike">
                <a:solidFill>
                  <a:srgbClr val="000000"/>
                </a:solidFill>
                <a:latin typeface="Tahoma"/>
              </a:rPr>
              <a:t>. Výpisy mají samozřejmě pouze informativní charakter, stejně jako u Obchodního rejstříku. Nejsou však tak často aktualizovány jako rejstřík vedený u Rejstříkového soudu.</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Tahoma"/>
              </a:rPr>
              <a:t>	</a:t>
            </a:r>
            <a:r>
              <a:rPr b="0" lang="cs-CZ" sz="900" spc="-1" strike="noStrike">
                <a:solidFill>
                  <a:srgbClr val="000000"/>
                </a:solidFill>
                <a:latin typeface="Tahoma"/>
              </a:rPr>
              <a:t>Součástí zápisu v Obchodním rejstříku je údaj o společnících. Jejich jména, adresy a rodná čísla. Všeobecně platí v obchodním právu zásada poctivého obchodního styku, ochrana menšinových společníků a ochrana třetích osob. Naproti tomu Občanský zákoník chrání bona fide (dobrou víru). Z právní teorie vyplývá, že Občanský zákoník je k Obchodnímu zákoníku v poměru lex generalis. Bude tedy nejprve chráněn poctivý obchodní styk a poté teprve dobrá víra? To je ale otázka, kterou přísluší zodpovědět právníkům. Budou-li zneužity osobní údaje veřejně přístupné, bude se evidentně jednat o podvod. Jak je to ale s informacemi, které z neveřejných informačních systémů získá např. zaměstnanec a použije je způsobem, který jasně napovídá o úmyslu zvýhodnit nebo naopak znevýhodnit jiný subjekt a ovlivnit rozhodování v obchodním styku? Trestní zákon stanovuje v § 128 objektivní stránku skutkové podstaty trestného činu zneužití informací v obchodním styku a sankci, která za takovýto čin nastává. </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Ochrana obchodního tajemství, důvěrných informací a know-how je pro každého podnikatele zcela zásadní. V dikci obchodního práva  tvoří obchodní tajemství vše, co má potencionální materiální či nemateriální povahu a není v příslušných obchodních kruzích běžně dostupné. Do obchodního tajemství spadá i veškerá technická dokumentace a programová dokumentace, databáze atd. Softwaru a databázím je poskytována i ochrana autorskoprávní. Naproti tomu do obchodního tajemství nelze zařadit účetní závěrky a údaje, které jsou povinně zveřejňovány např. ve zmíněném Obchodním rejstříku. Aby bylo možné poskytnout právní ochranu je vyžadována i určitou součinnost podnikatele založená na prevenci. V případě, že dojde k porušení práva k obchodnímu tajemství nebo k jeho ohrožení a to neoprávněným sdělením, dochází se strany porušitele k tzv. nekalé soutěži. Za nekalou soutěž lze považovat klamavou nebo srovnávací reklamu, klamavé označování zboží a služeb, vyvolávání nebezpečí záměny zboží se zbožím, jehož značka si svou kvalitou vydobyla dobré jméno, stejně tak lze za nekalou soutěž považovat zlehčování, podplácení atd. Proti nekalé soutěži se dá bránit již zmíněnou prevencí a opatrností ze strany podnikatele, jednak v řízení před civilním či trestním soudem</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800" spc="-1" strike="noStrike">
                <a:solidFill>
                  <a:srgbClr val="000000"/>
                </a:solidFill>
                <a:latin typeface="Tahoma"/>
              </a:rPr>
              <a:t>Jednou z možných preventivních opatření před nekalou soutěží je možnost zaregistrovat si na daný předmět ochrany tzv. ochrannou známku (viz zákon č. 441/2003 Sb., o ochranných známkách). Neznamená to, že se díky ochranné známce nepoctivý podnikatel nepokusí o nekalou soutěž, ale minimálně to usnadní průběh soudního řízení. Ochranná známka musí být zapsaná v rejstříku ochranných známek, který vede Úřad průmyslového vlastnictví. Před zápisem nové ochranné známky tento úřad zkoumá, zda má ochranná známka všechny předepsané náležitosti a vlastnosti, zda není shodná nebo zaměnitelná s jinou ochrannou známkou. Registrovaná ochranná známka je označována symbolem R v kroužku - ®, (R).  Rejstřík ochranných známek je veřejným seznamem. Stejně jako u ostatních rejstříků tohoto druhu může každý do něj nahlížet, pořizovat si výpisy či kopie a na požádání Úřad vydá úředně ověřený úplný nebo částečný výpis či opis nebo pozitivní či negativní potvrzení. Negativním potvrzením se rozumí potvrzení, že určitý zápis v daném rejstříku není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ahoma"/>
              </a:rPr>
              <a:t>Sui genesis právní ochrana obsahu databáze byla včleněna do Autorského zákona. Zákon č. 121/2000 Sb. stanovuje, že na software se hledí jako na dílo literární, včetně jeho přípravných koncepčních materiálů a bez ohledu na formu vyjádření. Avšak myšlenky a principy, na nichž je založen jakýkoli prvek tohoto počítačového programu, včetně  podkladů jeho propojení s jiným programem, nejsou podle tohoto zákona chráněny. Know-how může být právně chráněno obchodním tajemstvím dle Obchodního zákoníku.</a:t>
            </a:r>
            <a:r>
              <a:rPr b="0" lang="cs-CZ" sz="1200" spc="-1" strike="noStrike">
                <a:solidFill>
                  <a:srgbClr val="000000"/>
                </a:solidFill>
                <a:latin typeface="Arial"/>
              </a:rPr>
              <a:t>  </a:t>
            </a:r>
            <a:r>
              <a:rPr b="0" lang="cs-CZ" sz="800" spc="-1" strike="noStrike">
                <a:solidFill>
                  <a:srgbClr val="000000"/>
                </a:solidFill>
                <a:latin typeface="Tahoma"/>
              </a:rPr>
              <a:t>V Hlavě III. tohoto zákona je upravena právní ochrana databáze. Databází rozumíme vnitřně organizovaný soubor informací, údajů a dat uložený na paměťovém médiu. V širším smyslu jsou součástí databáze i softwarové prostředky, které umožňují manipulaci s uloženými daty a přístup k nim.  Podle § 89 je pořizovatelem databáze fyzická či právnická osoba, která si ji na svou odpovědnost pořídí nebo si ji nechá pořídit jinou osobou. Pořizovateli přísluší zvláštní práva k databázi, pokud pořízení, ověření nebo předvedení obsahu databáze představuje kvalitativně nebo kvantitativně podstatný vklad bez ohledu na to, zda databáze nebo její obsah jsou předmětem autorskoprávní nebo jiné ochrany. (viz §88a zákona č. 121/2000 Sb.)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C60A4-D4AC-4E76-8921-49DFE066C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A97A1-D543-438C-AE72-4E7D6745A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63AFC-94B7-4A79-8F98-5C9A78468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AC9FC-FE39-4117-85B3-CF433125D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0EA08-4E7F-4B9C-AD77-906A1311A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F9845-F818-4B23-8DAF-153EDA073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8CF85-4FBC-415B-82FF-C49D4FFD2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C5B57-9362-48C6-9CB8-BB5F0EA6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67F18-5263-4C0A-AB0D-1ADC8F8A1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6DB4-B501-455F-8DCE-C88D24636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9261B-4933-45EF-9A8C-335B741BE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A2258-8938-4DCE-AF9B-DDE655EDC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1EA6-4449-4CE3-8DC3-235FC6845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lincnerova.karin@student.polac.cz" TargetMode="External"/><Relationship Id="rId3" Type="http://schemas.openxmlformats.org/officeDocument/2006/relationships/hyperlink" Target="mailto:plincnerova.karin@student.polac.cz" TargetMode="External"/><Relationship Id="rId4" Type="http://schemas.openxmlformats.org/officeDocument/2006/relationships/hyperlink" Target="mailto:plincnerova.karin@student.polac.cz" TargetMode="External"/><Relationship Id="rId5" Type="http://schemas.openxmlformats.org/officeDocument/2006/relationships/hyperlink" Target="mailto:plincnerova.karin@student.polac.cz" TargetMode="External"/><Relationship Id="rId6" Type="http://schemas.openxmlformats.org/officeDocument/2006/relationships/hyperlink" Target="mailto:plincnerova.karin@student.polac.cz" TargetMode="External"/><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justice.cz/" TargetMode="External"/><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ční systémy z hlediska Obchodního práv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141720"/>
            <a:ext cx="6400800" cy="302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mestrální práce z předmětu Bezpečnost informací</a:t>
            </a:r>
            <a:r>
              <a:rPr b="0" lang="cs-CZ" sz="3200" spc="-1" strike="noStrike">
                <a:solidFill>
                  <a:srgbClr val="000000"/>
                </a:solidFill>
                <a:latin typeface="Arial"/>
              </a:rPr>
              <a:t> </a:t>
            </a:r>
            <a:endParaRPr b="0" lang="en-US" sz="32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Vypracoval: </a:t>
            </a:r>
            <a:r>
              <a:rPr b="0" lang="cs-CZ" sz="1000" spc="-1" strike="noStrike">
                <a:solidFill>
                  <a:srgbClr val="000000"/>
                </a:solidFill>
                <a:latin typeface="Arial"/>
              </a:rPr>
              <a:t>	</a:t>
            </a:r>
            <a:r>
              <a:rPr b="0" lang="cs-CZ" sz="1000" spc="-1" strike="noStrike">
                <a:solidFill>
                  <a:srgbClr val="000000"/>
                </a:solidFill>
                <a:latin typeface="Arial"/>
              </a:rPr>
              <a:t>Karin Plincnerová</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Obor:</a:t>
            </a:r>
            <a:r>
              <a:rPr b="0" lang="cs-CZ" sz="1000" spc="-1" strike="noStrike">
                <a:solidFill>
                  <a:srgbClr val="000000"/>
                </a:solidFill>
                <a:latin typeface="Arial"/>
              </a:rPr>
              <a:t>	</a:t>
            </a:r>
            <a:r>
              <a:rPr b="0" lang="cs-CZ" sz="1000" spc="-1" strike="noStrike">
                <a:solidFill>
                  <a:srgbClr val="000000"/>
                </a:solidFill>
                <a:latin typeface="Arial"/>
              </a:rPr>
              <a:t>Veřejná správa</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Forma:</a:t>
            </a:r>
            <a:r>
              <a:rPr b="0" lang="cs-CZ" sz="1000" spc="-1" strike="noStrike">
                <a:solidFill>
                  <a:srgbClr val="000000"/>
                </a:solidFill>
                <a:latin typeface="Arial"/>
              </a:rPr>
              <a:t>	</a:t>
            </a:r>
            <a:r>
              <a:rPr b="0" lang="cs-CZ" sz="1000" spc="-1" strike="noStrike">
                <a:solidFill>
                  <a:srgbClr val="000000"/>
                </a:solidFill>
                <a:latin typeface="Arial"/>
              </a:rPr>
              <a:t>kombinovaná</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Ročník:</a:t>
            </a:r>
            <a:r>
              <a:rPr b="0" lang="cs-CZ" sz="1000" spc="-1" strike="noStrike">
                <a:solidFill>
                  <a:srgbClr val="000000"/>
                </a:solidFill>
                <a:latin typeface="Arial"/>
              </a:rPr>
              <a:t>	</a:t>
            </a:r>
            <a:r>
              <a:rPr b="0" lang="cs-CZ" sz="1000" spc="-1" strike="noStrike">
                <a:solidFill>
                  <a:srgbClr val="000000"/>
                </a:solidFill>
                <a:latin typeface="Arial"/>
              </a:rPr>
              <a:t>I.</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Datum:</a:t>
            </a:r>
            <a:r>
              <a:rPr b="0" lang="cs-CZ" sz="1000" spc="-1" strike="noStrike">
                <a:solidFill>
                  <a:srgbClr val="000000"/>
                </a:solidFill>
                <a:latin typeface="Arial"/>
              </a:rPr>
              <a:t>	</a:t>
            </a:r>
            <a:r>
              <a:rPr b="0" lang="cs-CZ" sz="1000" spc="-1" strike="noStrike">
                <a:solidFill>
                  <a:srgbClr val="000000"/>
                </a:solidFill>
                <a:latin typeface="Arial"/>
              </a:rPr>
              <a:t>26.3.2007</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E-mail:</a:t>
            </a:r>
            <a:r>
              <a:rPr b="0" lang="cs-CZ" sz="1000" spc="-1" strike="noStrike">
                <a:solidFill>
                  <a:srgbClr val="000000"/>
                </a:solidFill>
                <a:latin typeface="Arial"/>
              </a:rPr>
              <a:t>	</a:t>
            </a:r>
            <a:r>
              <a:rPr b="0" lang="cs-CZ" sz="1000" spc="-1" strike="noStrike" u="sng">
                <a:solidFill>
                  <a:srgbClr val="009999"/>
                </a:solidFill>
                <a:uFillTx/>
                <a:latin typeface="Arial"/>
                <a:hlinkClick r:id="rId2"/>
              </a:rPr>
              <a:t>plincnerova</a:t>
            </a:r>
            <a:r>
              <a:rPr b="0" lang="cs-CZ" sz="1000" spc="-1" strike="noStrike" u="sng">
                <a:solidFill>
                  <a:srgbClr val="009999"/>
                </a:solidFill>
                <a:uFillTx/>
                <a:latin typeface="Arial"/>
                <a:hlinkClick r:id="rId3"/>
              </a:rPr>
              <a:t>.karin@student.</a:t>
            </a:r>
            <a:r>
              <a:rPr b="0" lang="cs-CZ" sz="1000" spc="-1" strike="noStrike" u="sng">
                <a:solidFill>
                  <a:srgbClr val="009999"/>
                </a:solidFill>
                <a:uFillTx/>
                <a:latin typeface="Arial"/>
                <a:hlinkClick r:id="rId4"/>
              </a:rPr>
              <a:t>polac</a:t>
            </a:r>
            <a:r>
              <a:rPr b="0" lang="cs-CZ" sz="1000" spc="-1" strike="noStrike" u="sng">
                <a:solidFill>
                  <a:srgbClr val="009999"/>
                </a:solidFill>
                <a:uFillTx/>
                <a:latin typeface="Arial"/>
                <a:hlinkClick r:id="rId5"/>
              </a:rPr>
              <a:t>.</a:t>
            </a:r>
            <a:r>
              <a:rPr b="0" lang="cs-CZ" sz="1000" spc="-1" strike="noStrike" u="sng">
                <a:solidFill>
                  <a:srgbClr val="009999"/>
                </a:solidFill>
                <a:uFillTx/>
                <a:latin typeface="Arial"/>
                <a:hlinkClick r:id="rId6"/>
              </a:rPr>
              <a:t>cz</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33360"/>
            <a:ext cx="3959280" cy="5678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Úvod prá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o je informační systém</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Účetnictví podnikatelů</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Elektronická podání</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Zákon o elektronickém podpis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Zneužití informací v obchodním styk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Obchodní tajemství, nekalá soutěž</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Ochranná známka</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ávní  ochrana obsahu databáze</a:t>
            </a:r>
            <a:endParaRPr b="0" lang="en-US" sz="1800" spc="-1" strike="noStrike">
              <a:solidFill>
                <a:srgbClr val="000000"/>
              </a:solidFill>
              <a:latin typeface="Arial"/>
            </a:endParaRPr>
          </a:p>
        </p:txBody>
      </p:sp>
      <p:sp>
        <p:nvSpPr>
          <p:cNvPr id="51" name="PlaceHolder 2"/>
          <p:cNvSpPr>
            <a:spLocks noGrp="1"/>
          </p:cNvSpPr>
          <p:nvPr>
            <p:ph/>
          </p:nvPr>
        </p:nvSpPr>
        <p:spPr>
          <a:xfrm>
            <a:off x="4648320" y="333360"/>
            <a:ext cx="3959280" cy="5678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Podklady  - legislati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563/1991 Sb., o účetnictví</a:t>
            </a:r>
            <a:endParaRPr b="0" lang="en-US" sz="1800" spc="-1" strike="noStrike">
              <a:solidFill>
                <a:srgbClr val="000000"/>
              </a:solidFill>
              <a:latin typeface="Arial"/>
            </a:endParaRPr>
          </a:p>
          <a:p>
            <a:pPr marL="343080" indent="-34308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okyn č. D-252 (D-244), </a:t>
            </a:r>
            <a:r>
              <a:rPr b="0" i="1" lang="en-US" sz="1400" spc="-1" strike="noStrike">
                <a:solidFill>
                  <a:srgbClr val="000000"/>
                </a:solidFill>
                <a:latin typeface="Tahoma"/>
              </a:rPr>
              <a:t>podmínky pro podání v daňových věcech prostřednictvím datové zprávy</a:t>
            </a:r>
            <a:endParaRPr b="0" lang="en-US" sz="1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227/2000 Sb., o elektronickém podpis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513/1991 Sb., Obchodní zákoník</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121/2000 Sb., autorský zákon</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441/2003 Sb., o ochranných známkách</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33360"/>
            <a:ext cx="3959280" cy="5678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o to je informační systé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systém sloužící ke shromažďování, zpracování</a:t>
            </a:r>
            <a:br>
              <a:rPr sz="1800"/>
            </a:br>
            <a:r>
              <a:rPr b="0" i="1" lang="en-US" sz="1800" spc="-1" strike="noStrike">
                <a:solidFill>
                  <a:srgbClr val="000000"/>
                </a:solidFill>
                <a:latin typeface="Tahoma"/>
              </a:rPr>
              <a:t>a poskytování dat </a:t>
            </a:r>
            <a:endParaRPr b="0" lang="en-US" sz="1800" spc="-1" strike="noStrike">
              <a:solidFill>
                <a:srgbClr val="000000"/>
              </a:solidFill>
              <a:latin typeface="Arial"/>
            </a:endParaRPr>
          </a:p>
        </p:txBody>
      </p:sp>
      <p:sp>
        <p:nvSpPr>
          <p:cNvPr id="53" name="PlaceHolder 2"/>
          <p:cNvSpPr>
            <a:spLocks noGrp="1"/>
          </p:cNvSpPr>
          <p:nvPr>
            <p:ph/>
          </p:nvPr>
        </p:nvSpPr>
        <p:spPr>
          <a:xfrm>
            <a:off x="4648320" y="333360"/>
            <a:ext cx="3959280" cy="5678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Účetnictví  podnikatel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Software</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Daňová evidenc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odvojné účetnictví</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Zpracování mezd</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Výkaznictví</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Daňová přiznání</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563/1991 Sb. o účetnictví</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Zachovávat účetnictví jako celek </a:t>
            </a:r>
            <a:r>
              <a:rPr b="0" i="1" lang="en-US" sz="1400" spc="-1" strike="noStrike">
                <a:solidFill>
                  <a:srgbClr val="000000"/>
                </a:solidFill>
                <a:latin typeface="Tahoma"/>
              </a:rPr>
              <a:t>po zákonem stanovenou dobu</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Vést účetnictví průkazným způsobem</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Zveřejňovat účetní závěrku ve sbírce list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3959280" cy="575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Tahoma"/>
              </a:rPr>
              <a:t>Elektronická podán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Z.č. 227/2000 Sb., </a:t>
            </a:r>
            <a:r>
              <a:rPr b="0" i="1" lang="cs-CZ" sz="1400" spc="-1" strike="noStrike">
                <a:solidFill>
                  <a:srgbClr val="000000"/>
                </a:solidFill>
                <a:latin typeface="Tahoma"/>
              </a:rPr>
              <a:t>o elektronickém podpisu</a:t>
            </a:r>
            <a:endParaRPr b="0" lang="en-US" sz="1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Pokyn MF ČR D-244, resp. D-252</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Stanovení podmínek pro podání v daňových věcech prostřednictvím datové zprávy</a:t>
            </a:r>
            <a:endParaRPr b="0" lang="en-US" sz="1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Systém EPO (stránky MF ČR)</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On-line podání a možnost sledování stavu podaného materiálu</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Růst oblíbenosti a využívanosti tohoto systému</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Zveřejňování formulářů MFČR s možností jejich tisku  a předložení daňovému úřadu</a:t>
            </a:r>
            <a:endParaRPr b="0" lang="en-US" sz="1600" spc="-1" strike="noStrike">
              <a:solidFill>
                <a:srgbClr val="000000"/>
              </a:solidFill>
              <a:latin typeface="Arial"/>
            </a:endParaRPr>
          </a:p>
        </p:txBody>
      </p:sp>
      <p:sp>
        <p:nvSpPr>
          <p:cNvPr id="55" name="PlaceHolder 2"/>
          <p:cNvSpPr>
            <a:spLocks noGrp="1"/>
          </p:cNvSpPr>
          <p:nvPr>
            <p:ph/>
          </p:nvPr>
        </p:nvSpPr>
        <p:spPr>
          <a:xfrm>
            <a:off x="4648320" y="404280"/>
            <a:ext cx="3959280" cy="575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Tahoma"/>
              </a:rPr>
              <a:t>Zákon o elektronickém podpisu</a:t>
            </a:r>
            <a:endParaRPr b="0" lang="en-US" sz="2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Pojmy</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Osoba podepisující, označující, držitel certifikátu, poskytovatel certifikačních služeb</a:t>
            </a:r>
            <a:endParaRPr b="0" lang="en-US" sz="16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Jednoznačná identifikace podepisovaného subjektu</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Pokud se neprokáže opak, má se za to, že podepsaná osoba je s obsahem seznámena</a:t>
            </a:r>
            <a:endParaRPr b="0" lang="en-US" sz="16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Akreditovaní poskytovatelé certifikačních služeb</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1. certifikační autorita a.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Česká pošta s.p.</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eIdentity 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04280"/>
            <a:ext cx="3959280" cy="575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Tahoma"/>
              </a:rPr>
              <a:t>Rejstříky ekonom. subjetk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Obchodní rejstřík</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9999"/>
                </a:solidFill>
                <a:uFillTx/>
                <a:latin typeface="Tahoma"/>
                <a:hlinkClick r:id="rId2"/>
              </a:rPr>
              <a:t>www.justice.cz</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Veřejně přístupná databáz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Sbírka listin</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Obligatorní zápisy</a:t>
            </a:r>
            <a:endParaRPr b="0" lang="en-US" sz="16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Obchodní věstník</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Tištěná i internetová podoba</a:t>
            </a:r>
            <a:endParaRPr b="0" lang="en-US" sz="16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Administrativní registr ekonomických subjektů</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Částečně veřejně přístupná databáze živnostenského podnikání</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4648320" y="404280"/>
            <a:ext cx="3959280" cy="575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neužití informací</a:t>
            </a:r>
            <a:br>
              <a:rPr sz="2400"/>
            </a:br>
            <a:r>
              <a:rPr b="1" i="1" lang="en-US" sz="2400" spc="-1" strike="noStrike">
                <a:solidFill>
                  <a:srgbClr val="000000"/>
                </a:solidFill>
                <a:latin typeface="Tahoma"/>
              </a:rPr>
              <a:t>v obchodním styk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Obecné zásady obchodního práva</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octivý obchodní styk</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Ochrana třetích osob</a:t>
            </a:r>
            <a:endParaRPr b="0" lang="en-US" sz="16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Bona fide</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Ochrana občanským právem</a:t>
            </a:r>
            <a:endParaRPr b="0" lang="en-US" sz="16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Zneužití údajů</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odvod – s trestněprávní odpovědnost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3959280" cy="5758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Obchodní tajemství, nekalá soutě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Obchodní tajemství je vše, co má pro podnikatele materiální i nemateriální hodnotu a není v příslušných kruzích dostupné</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Technická a programová dokumentace, databáze, know-how</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Nejlepší ochrana – prevence a opatrnost</a:t>
            </a:r>
            <a:endParaRPr b="0" lang="en-US" sz="1400" spc="-1" strike="noStrike">
              <a:solidFill>
                <a:srgbClr val="000000"/>
              </a:solidFill>
              <a:latin typeface="Arial"/>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Neoprávněné sdělení obchodního tajemství</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Dochází k nekalé soutěži</a:t>
            </a:r>
            <a:endParaRPr b="0" lang="en-US" sz="1600" spc="-1" strike="noStrike">
              <a:solidFill>
                <a:srgbClr val="000000"/>
              </a:solidFill>
              <a:latin typeface="Arial"/>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Nekalá soutěž – klamavá nebo srovnávací</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Reklam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Označování zboží a služeb</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Vyvolávání nebezpeční záměny</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2"/>
          <p:cNvSpPr>
            <a:spLocks noGrp="1"/>
          </p:cNvSpPr>
          <p:nvPr>
            <p:ph/>
          </p:nvPr>
        </p:nvSpPr>
        <p:spPr>
          <a:xfrm>
            <a:off x="4648320" y="404280"/>
            <a:ext cx="3959280" cy="5758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Ochranná znám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eventivní opatření před nekalou soutěží</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Zákon 441/2003 Sb. o ochranných známkách</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Zkoumá se zda není registrovaná známka shodná nebo zaměnitelná s jin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jstřík ochranných známek</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Veřejný seznam s možností pořízení opisů, výpisů či kopi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04280"/>
            <a:ext cx="3959280" cy="575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Tahoma"/>
              </a:rPr>
              <a:t>Právní ochrana obsahu databáz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Sui generis právní ochrana včleněná do autorského zákona</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Software = literární díl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Koncepty chráněny nejsou</a:t>
            </a:r>
            <a:endParaRPr b="0" lang="en-US" sz="16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ahoma"/>
              </a:rPr>
              <a:t>Databáze = </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Organizovaný soubor informací, údajů a dat uložených na paměťovém médiu</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Tahoma"/>
              </a:rPr>
              <a:t>Pořizovatelem databáze – </a:t>
            </a:r>
            <a:r>
              <a:rPr b="0" i="1" lang="cs-CZ" sz="1400" spc="-1" strike="noStrike">
                <a:solidFill>
                  <a:srgbClr val="000000"/>
                </a:solidFill>
                <a:latin typeface="Tahoma"/>
              </a:rPr>
              <a:t>PO i FO, která si ji pořídí nebo nechá pořídit</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Zvláštní práva k databázi přísluší podnikateli, pokud databáze představuje podstatný vklad </a:t>
            </a:r>
            <a:endParaRPr b="0" lang="en-US" sz="1400" spc="-1" strike="noStrike">
              <a:solidFill>
                <a:srgbClr val="000000"/>
              </a:solidFill>
              <a:latin typeface="Arial"/>
            </a:endParaRPr>
          </a:p>
        </p:txBody>
      </p:sp>
      <p:sp>
        <p:nvSpPr>
          <p:cNvPr id="61" name="PlaceHolder 2"/>
          <p:cNvSpPr>
            <a:spLocks noGrp="1"/>
          </p:cNvSpPr>
          <p:nvPr>
            <p:ph/>
          </p:nvPr>
        </p:nvSpPr>
        <p:spPr>
          <a:xfrm>
            <a:off x="4648320" y="404280"/>
            <a:ext cx="3959280" cy="5758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ávě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o ještě nebylo zmíněno</a:t>
            </a:r>
            <a:endParaRPr b="0" lang="en-US" sz="18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Například:</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formační systém jako zboží</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Smlouva o díl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Dodací podmínky</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ternetový obchod</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3:28:03Z</dcterms:created>
  <dc:creator>Karin Plincnerová</dc:creator>
  <dc:description/>
  <dc:language>en-US</dc:language>
  <cp:lastModifiedBy>Karin Plincnerová</cp:lastModifiedBy>
  <dcterms:modified xsi:type="dcterms:W3CDTF">2007-05-03T07:04:25Z</dcterms:modified>
  <cp:revision>51</cp:revision>
  <dc:subject/>
  <dc:title>Informační systémy z hlediska Obchodního práva</dc:title>
</cp:coreProperties>
</file>