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A5B0-0CDD-4F86-9022-1B8EBF1263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V = OSVĚDČENÍ O REGISTRACI VOZID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56F-1282-4F53-ACA5-567974A1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D51-AA3B-406F-88FF-2F45FC9F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276-AB84-4EFD-A0DF-EFF60712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495-CFC8-4771-9885-3D84C676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BE46-07B5-4747-98E4-DF312BE4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40AC-C71F-49CE-AAF7-2E8A097D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56B0-8466-4625-A374-16F10AF4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3603-8AD8-4C4D-AF00-4AA34834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172D-A0CB-442D-9D3B-353A0A64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CF23-2CD4-43A0-85B8-C2B36981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474B-BE81-4E29-852D-DC63434F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518-2FA3-4F17-BFA5-293E8362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5B56-894A-48C9-867C-6E39376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1FAB-CABD-4A31-9400-375F387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AAB5-EE7E-4857-A4FA-AE25008D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B291-9508-42E8-95CB-23DE7FDB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48EA-095D-403E-99CC-24EBD9AC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0CE-0EC6-473D-97E2-A028C74F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B8E-500D-49BC-9CCF-3D78889B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F0F-BA87-49DE-851D-21ED192A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73A-AF38-49C3-A105-3511CFAE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3B4-0472-4813-B668-CE1CEE3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EC6-68D4-4ABA-8EAF-6721BF8A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804-8E53-40A1-AE19-1D2E8C19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BFCE-69BF-4878-9CD1-63370E2F63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C475-5389-4314-8F6A-EB486C6651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DCIZENÍ OSOBNÍCH DOKLADŮ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b2c1"/>
                </a:solidFill>
                <a:latin typeface="Verdana"/>
              </a:rPr>
              <a:t>(ne)použitel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b2c1"/>
                </a:solidFill>
                <a:latin typeface="Verdana"/>
              </a:rPr>
              <a:t>Potvrzení o občanském průkaz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AK JÍT SVĚDČIT K SOUDU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dložit rodný list, oznámení odcizení od PČR, Potvrzení o 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dnání bud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odroče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 jednání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postač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ředložené dokla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OBA A POPLATKY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66640" y="1700280"/>
          <a:ext cx="8001000" cy="44179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kla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b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rávní popl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čanský průkaz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dnů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Kč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stovní p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dn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 K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tební ka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le bank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a 200 K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Řidičský průka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dn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 K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kaz pojiště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le pojišťovn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K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vědčení o reg. vozid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amžit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K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VRHOVANÁ LEGISLATIVNÍ ÚPRAVA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užít dostupné databáze údajů O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tvrzení vytisknout z PC včetně fo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Využít zákona o IS V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atřit úředním razítk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velizovat zákon o občanských průkaz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hlásit POTVRZENÍ O OP veřejnou listin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mu je studie určen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šem starším 15-ti l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íl studi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ukázat na legislativní nedostateč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stínit postupy při vyřizování nových doklad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ovat o potřebných dokumentech při vyřizování nových dokladů a poplatcí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 je třeba UČINIT – KOMU HLÁSIT ODCIZENÍ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KLAD TOTOŽ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čanský průkaz - povinn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estovní doklad - nepovinn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ABLOKOVAT PLATEBNÍ KARTU - ih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čí telefonick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LICIE ČR - okamžitě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zapomenout si vzít kopii oznáme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ECNÍ ÚŘAD ORP – nejbližší úřední 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chat si vystavit POTVRZENÍ O 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 NÁS ČEKÁ DÁL – další úřady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DRAVOTNÍ POJIŠŤOVNA – do 8 dn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řípadně vystaví náhradní průka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BOR DOPRAVNĚ SPRÁVNÍCH AGEND OÚ OR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ystaví duplikát řidičského průka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vidence řidičů – pouze s O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ystaví duplikát osvědčení o registraci vo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vidence vozidel – s Potvrzením o O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OTVRZENÍ O OBČANSKÉM PRŮKAZ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nahrazuje 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uze „omlouvá“ občana, proč jej nem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ní uznatelný jako doklad totož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ystaví jej buď PČR nebo OÚ OR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de postač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lu s rodným listem – Z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lu s velkým OTP a potvrzením od PČR při žádosti o duplikát OR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ři sjednání povinného ruče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DE NESTAČÍ POTVRZENÍ O OP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Žádost o vydání nového řidičského průkaz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Žádost o vydání cestovního dokl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ýběr hotovosti v b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vzetí zásilek na pošt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 SI ZAJISTIT PŘÍSTUP K FINANCÍM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ní možné použít banko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přepážky hotovost nevydají bez dokladu totož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ředložit rodný list, oznámení odcizení od PČR, Potvrzení o OP a pokusit se smlouv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ní možné si vzít půjč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Internetové bankovnictv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Převod na důvěryhodnou osob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Zastavárna, půjčka od známý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Úrok lze vnímat jako sekundární sank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 PŘEVZÍT POŠTU URČENOU DO VLASTNÍCH RUKOU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PORUČENÁ ZÁSIL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ětovné doručení – možnost převzít jinou osob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SILKA DO VLASTNÍCH RUK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šta vrátí zásilku zpě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žadovat zapsání poznámky pro odesílatele o absenci dokladu totož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Nechat si vystavit potvrzení, že zásilka nemohla být vydá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 ŘÍDIT MOTOROVÉ VOZIDLO, RESP. CESTOVAT V ZEMÍCH EU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rámci ČR doufat v chápajícího příslušní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ředložit rodný list, oznámení odcizení od PČR, Potvrzení o OP a pokusit s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smlouv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á možnost „prolustrovat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zemí EU 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necestov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6:32:46Z</dcterms:created>
  <dc:creator>Karin Plincnerová</dc:creator>
  <dc:description/>
  <dc:language>en-US</dc:language>
  <cp:lastModifiedBy>Karin Plincnerová</cp:lastModifiedBy>
  <dcterms:modified xsi:type="dcterms:W3CDTF">2009-10-08T20:14:02Z</dcterms:modified>
  <cp:revision>23</cp:revision>
  <dc:subject/>
  <dc:title>ODCIZENÍ OSOBNÍCH DOKLADŮ</dc:title>
</cp:coreProperties>
</file>